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B02-6519-4BB6-8F73-95A61E68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D87-C5B8-4E96-809E-DA41076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ED7-E803-4FED-8916-EF8D6F04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281-C76A-4EFC-9ADA-73C0F8FB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148-B49C-4F2C-B58A-6DE662B2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DE3-3079-41EA-B304-88FFDF9F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A27-EDDD-4C33-99F3-6FAC49A4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3D6-DE6D-4036-97A2-8E37F21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8D3-6B2E-4EAE-8BD9-81055B8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D2C-9BAD-41CD-A566-2A26E15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1C-B367-4E98-9E7C-483F48C8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035-6A96-42DE-8324-2D1841A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0D1B-F629-4EB7-9DCF-847039CF5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9 Chcem spievať svojmu Pán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pievať svojmu Páno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rúcne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našiel, oslo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koj svoj m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jemu život zasvä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nes už dobre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mnoho za mňa zapla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 nádejať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chváliť Pána Ježiš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 ňom šíriť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patrí najvyšš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, vďaka, chvála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jeho vzácna, nevin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ečnej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avda, Cesta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áchranca j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pasiteľa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iť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ako zbory na neb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znovu,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všetkých, čo ho mil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útočište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ým, čo v ňom sa rad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veniec slávy d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17:11Z</dcterms:modified>
  <cp:revision>20</cp:revision>
  <dc:subject/>
  <dc:title>Je veľký náš Pán, on slávy je Kráľ Nech do všetkých strán  spev vrúcnych znie chvál.</dc:title>
</cp:coreProperties>
</file>